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B2B-1DC9-490E-8AFF-4D3C024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D11-F963-4CB9-970D-4A53ADE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D54-FFEC-4C67-B93F-6D1E709F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ACC-CFC6-4F42-9283-C5FC2BA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4532-FBB2-4375-8B00-46E66FA4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C897-75DF-4D44-AF9B-E2E73A7B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63F-4BEF-47C3-BB11-B96D1569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4048-C2A6-4F31-AFB7-AF9FC2A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342-B439-453E-A7B4-446904F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4A0E-FEF0-40BE-9D73-C4C9627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5E05-1D4C-4FA1-8926-4CB5548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FF7-08E2-4BEE-9E31-DB9F1B36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7C9B-6DC3-41A5-8254-86FA8D0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B42-3F7E-4954-90A9-EB5846A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38E-03FC-483E-906D-B6264A66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31D5-F8DF-42C9-AEF9-CEC83055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2D43-3C55-4861-AD9D-9D10729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3D46-B1BF-436F-BB4B-557F6000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BE14-E231-40C4-B8F9-35FA6CA3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FB88-2E72-4746-9866-A4B7DF6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9B42-310A-4667-ADED-57B4E0C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87FC-7940-4C19-A88C-51E3A83B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EB4-1AF2-4B6C-BA14-A1191501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C564-47D5-4964-89D2-FD583DF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01A1-B2AD-4BF1-8268-A1C7509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5E04-EB75-441A-BA58-AB69DD4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02F3-3B4D-4E6C-BFBE-2623983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4766-4F2F-4D8E-A0F3-9D0BD16D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54A8-6F04-42B0-998B-E8CC2F5E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4B516-AC73-4396-8614-6FC5B17C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67D7-1255-4491-8E63-F0B44322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35175-AF8C-4CEF-AC13-4AA7F51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8DDB-D720-4FD5-93F6-35870785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721-A469-46FD-9F1D-F01B2A6E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AEDC-FEE4-41F1-861B-8CA7E528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14BA-4686-4CFB-B5A0-A7839647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3F85-1F28-40D4-84CF-61F7598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BAF3-79FD-4BA5-906E-B6089A1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8739-D03D-4EEC-86CF-F86AB80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440A-0F2E-4B3A-AD9B-DA22A16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E70B-D6D4-40AB-855F-6A700C2D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E396-B133-4C61-A650-9F2DBB74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D343-74A3-4085-9E8A-BF02F9A6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8B88-EC58-4D1F-9AE4-71665F74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580-8ED9-496F-BB65-C1402364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5D20-5600-4A80-96CD-0CE8A09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69BB-B6C4-498F-9450-1F5A120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3380-524B-47A8-87C3-779480E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F013-88E7-48AD-9E6F-EE47296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26D1-E7EE-4B73-9EA2-47507A7C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A511-CF44-4BB8-9DC2-4ABA154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2F45-9B31-44BB-962C-0C3743F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4045-FDB8-4B6C-AF67-517B1F1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AB25-D0DE-4D7D-AEB1-F4A6B21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147E-D488-4E2B-AE93-1E7D4324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21A-E79D-432A-B9B6-85C67C4A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AB43-7DCE-4AA9-83CD-BB78BB71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7460-BD4C-488B-AFB8-6AC03623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B0C4-D9F3-4E0C-ABB7-B89D7A25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5626-B0C0-440D-A609-6818967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E2F2-3132-45FB-A3A7-9C128F53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0211-23F2-4B36-A23F-5FD3E18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DF4A-A610-4167-9394-442DE11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BC9D-5201-4B28-9186-ADD019E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6AAA-8383-464E-8714-413401B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1407-C957-4172-BAA3-5A2574A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BA0-AEF5-4E5E-9B45-3B6D40E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D6B3-B1A9-4B4F-B8D1-3CE690D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E1A8-8EA0-4478-A438-594C0040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5E0B-ABFB-49D8-A6C7-D38F40CC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54756-FB9B-4915-AB2F-AE1499EF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9525-A793-4CA2-BD55-1267CDC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D2C6-6CBF-4B1B-96A4-1A7CD41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42ED-B438-4C42-8434-EA5ED0C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6C5B-57D9-40B0-899E-86D88F12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DBF7-F4F3-414D-B5BC-C738F5D8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E957-D416-44F7-80DA-C1EC1C0B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DBA-21D9-462B-B9E9-CF77A8E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24DA-9B7E-46E6-B666-93E197B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46FF5-2401-4952-ACCD-63679BE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D0CE-1322-48B7-A0F3-BC1FB372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50E9-652B-411B-9AF5-E64DBA82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FA02-D3D8-4914-989F-18B947D9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432-6649-4626-9426-2014445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BB89-E4CB-4BAE-A43A-02C11EE1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8C4B-569E-41E8-96F4-5C934A3832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CFF-D88F-404B-8EEC-ECC00E42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B6BE-B0D9-433E-B5F6-C14419D5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904-26E0-4CBA-8F20-9F58A81C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B3C-2E7E-45BC-8593-EAF16AD6F5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70C1-E767-4957-879D-011888AA433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gitalfamilysummit.com/2012/safety-protecting-your-digital-footprint" TargetMode="External"/><Relationship Id="rId2" Type="http://schemas.openxmlformats.org/officeDocument/2006/relationships/hyperlink" Target="http://www.digitalfamilysummit.com/2012/safety-protecting-your-digital-footprint" TargetMode="External"/><Relationship Id="rId3" Type="http://schemas.openxmlformats.org/officeDocument/2006/relationships/hyperlink" Target="http://www.educationnation.com/index.cfm?objectid=5DE1F0EE-21AE-11E1-A9BF000C296BA163&amp;aka=0" TargetMode="External"/><Relationship Id="rId4" Type="http://schemas.openxmlformats.org/officeDocument/2006/relationships/hyperlink" Target="http://www.educationnation.com/index.cfm?objectid=D25A95BE-6152-11E1-8D32000C296BA163" TargetMode="External"/><Relationship Id="rId5" Type="http://schemas.openxmlformats.org/officeDocument/2006/relationships/hyperlink" Target="http://www.huffingtonpost.com/2011/12/08/social-media-in-classroom_n_1137359.html" TargetMode="External"/><Relationship Id="rId6" Type="http://schemas.openxmlformats.org/officeDocument/2006/relationships/hyperlink" Target="http://www.iste.org/Libraries/PDFs/NETS-T_Standards.sflb.ashx" TargetMode="External"/><Relationship Id="rId7" Type="http://schemas.openxmlformats.org/officeDocument/2006/relationships/hyperlink" Target="http://www.cde.state.co.us/scripts/allstandards/COStandards.asp" TargetMode="External"/><Relationship Id="rId8" Type="http://schemas.openxmlformats.org/officeDocument/2006/relationships/hyperlink" Target="http://shinydoor.com/taxonomy/term/270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dmodo.com/join/21be0580c74f2f7eb3a66f367f98e3a2" TargetMode="External"/><Relationship Id="rId2" Type="http://schemas.openxmlformats.org/officeDocument/2006/relationships/hyperlink" Target="http://www.edutopia.org/" TargetMode="External"/><Relationship Id="rId3" Type="http://schemas.openxmlformats.org/officeDocument/2006/relationships/hyperlink" Target="http://www.enetcolorado.org/" TargetMode="External"/><Relationship Id="rId4" Type="http://schemas.openxmlformats.org/officeDocument/2006/relationships/hyperlink" Target="http://kidblog.org/MrsGlynnsClass/" TargetMode="External"/><Relationship Id="rId5" Type="http://schemas.openxmlformats.org/officeDocument/2006/relationships/hyperlink" Target="http://blog.discoveryeducation.com/scwentworth/" TargetMode="External"/><Relationship Id="rId6" Type="http://schemas.openxmlformats.org/officeDocument/2006/relationships/hyperlink" Target="http://www.classtools.net/fb/home/page" TargetMode="External"/><Relationship Id="rId7" Type="http://schemas.openxmlformats.org/officeDocument/2006/relationships/hyperlink" Target="http://www.drive.google.com/" TargetMode="External"/><Relationship Id="rId8" Type="http://schemas.openxmlformats.org/officeDocument/2006/relationships/hyperlink" Target="http://www.discoveryeducation.com/" TargetMode="External"/><Relationship Id="rId9" Type="http://schemas.openxmlformats.org/officeDocument/2006/relationships/hyperlink" Target="http://www.piclits.com/" TargetMode="External"/><Relationship Id="rId10" Type="http://schemas.openxmlformats.org/officeDocument/2006/relationships/hyperlink" Target="http://bit.ly/KY57dL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unity.prometheanplanet.com/en/user_groups/aurorak12/default.aspx" TargetMode="External"/><Relationship Id="rId2" Type="http://schemas.openxmlformats.org/officeDocument/2006/relationships/hyperlink" Target="http://www.teachingdegree.org/2009/06/30/50-awesome-ways-to-use-skype-in-the-classroom/" TargetMode="External"/><Relationship Id="rId3" Type="http://schemas.openxmlformats.org/officeDocument/2006/relationships/hyperlink" Target="http://www.skype.com/" TargetMode="External"/><Relationship Id="rId4" Type="http://schemas.openxmlformats.org/officeDocument/2006/relationships/hyperlink" Target="http://www.thinkfinity.org/" TargetMode="External"/><Relationship Id="rId5" Type="http://schemas.openxmlformats.org/officeDocument/2006/relationships/hyperlink" Target="http://www.twitter.com/" TargetMode="External"/><Relationship Id="rId6" Type="http://schemas.openxmlformats.org/officeDocument/2006/relationships/hyperlink" Target="https://aea-tic.wikispaces.com/home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523880" y="380880"/>
          <a:ext cx="6096240" cy="517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al Media in the Classroom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Box 6"/>
          <p:cNvSpPr/>
          <p:nvPr/>
        </p:nvSpPr>
        <p:spPr>
          <a:xfrm>
            <a:off x="934200" y="1600200"/>
            <a:ext cx="763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have brought a computer or digital device with you, please jo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MODO group to interact with this pres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www.edmodo.com/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don’t have an account, Click on 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’m A Teacher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follow the directions t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eate a free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the Left bar, click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 JO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 the Code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l4rz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lease introduce yourself and respond to the poll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https://encrypted-tbn2.google.com/images?q=tbn:ANd9GcTuo8YBT9p_Rh7dWqzxw-vCZdFkP-CQv8Fp5C4-YBpKchadPG8s"/>
          <p:cNvPicPr/>
          <p:nvPr/>
        </p:nvPicPr>
        <p:blipFill>
          <a:blip r:embed="rId1"/>
          <a:stretch/>
        </p:blipFill>
        <p:spPr>
          <a:xfrm>
            <a:off x="1143000" y="1066680"/>
            <a:ext cx="6553080" cy="50436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1321920" y="38088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ocial Media in the Classro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62120" y="624852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encrypted-tbn2.google.com/images?q=tbn:ANd9GcTuo8YBT9p_Rh7dWqzxw-vCZdFkP-CQv8Fp5C4-YBpKchadPG8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459720" y="30492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78040" y="1219320"/>
          <a:ext cx="6858000" cy="5173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hlinkClick r:id="rId1"/>
                        </a:rPr>
                        <a:t>http://</a:t>
                      </a:r>
                      <a:r>
                        <a:rPr b="0" lang="en-US" sz="14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hlinkClick r:id="rId2"/>
                        </a:rPr>
                        <a:t>www.digitalfamilysummit.com/2012/safety-protecting-your-digital-footpri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TextBox 3"/>
          <p:cNvSpPr/>
          <p:nvPr/>
        </p:nvSpPr>
        <p:spPr>
          <a:xfrm>
            <a:off x="913320" y="2057400"/>
            <a:ext cx="78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educationnation.com/index.cfm?objectid=5DE1F0EE-21AE-11E1-A9BF000C296BA163&amp;aka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913320" y="2666880"/>
            <a:ext cx="72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www.educationnation.com/index.cfm?objectid=D25A95BE-6152-11E1-8D32000C296BA16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669960" y="838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gital Foot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6"/>
          <p:cNvSpPr/>
          <p:nvPr/>
        </p:nvSpPr>
        <p:spPr>
          <a:xfrm>
            <a:off x="704880" y="17496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cial Media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683280" y="2362320"/>
            <a:ext cx="48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 Reasons for using Social Media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684720" y="2971800"/>
            <a:ext cx="52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cial Media in Classrooms: A Case For Why It Belo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903960" y="3276720"/>
            <a:ext cx="668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www.huffingtonpost.com/2011/12/08/social-media-in-classroom_n_1137359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10"/>
          <p:cNvSpPr/>
          <p:nvPr/>
        </p:nvSpPr>
        <p:spPr>
          <a:xfrm>
            <a:off x="696960" y="426708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Ts for Teachers-ISTE (International Society  for Technology in Educ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1"/>
          <p:cNvSpPr/>
          <p:nvPr/>
        </p:nvSpPr>
        <p:spPr>
          <a:xfrm>
            <a:off x="888120" y="4572000"/>
            <a:ext cx="481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://www.iste.org/Libraries/PDFs/NETS-T_Standards.sflb.ash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677160" y="48769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lorado Academic Standards-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85600" y="5181480"/>
            <a:ext cx="49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7"/>
              </a:rPr>
              <a:t>http://www.cde.state.co.us/scripts/allstandards/COStandards.a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669960" y="3581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sitive Digital Foot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893160" y="3886200"/>
            <a:ext cx="33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8"/>
              </a:rPr>
              <a:t>http://shinydoor.com/taxonomy/term/270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383040" y="304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bsites and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517680" y="43434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ake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525240" y="15238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cover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564840" y="2805120"/>
            <a:ext cx="21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modo-Cod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l4rz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521640" y="685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529560" y="510552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gle Apps/Docs/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521640" y="35701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top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524520" y="213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et Col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94680" y="3186000"/>
            <a:ext cx="47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edmodo.com/join/21be0580c74f2f7eb3a66f367f98e3a2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1070280" y="395136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http://www.edutopia.org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915120" y="24242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enetcolorado.org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18"/>
          <p:cNvSpPr/>
          <p:nvPr/>
        </p:nvSpPr>
        <p:spPr>
          <a:xfrm>
            <a:off x="923040" y="990720"/>
            <a:ext cx="38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kidblog.org/MrsGlynnsClass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blog.discoveryeducation.com/scwentworth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19"/>
          <p:cNvSpPr/>
          <p:nvPr/>
        </p:nvSpPr>
        <p:spPr>
          <a:xfrm>
            <a:off x="1071000" y="47242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://www.classtools.net/fb/home/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1066680" y="54831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7"/>
              </a:rPr>
              <a:t>http://www.drive.google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21"/>
          <p:cNvSpPr/>
          <p:nvPr/>
        </p:nvSpPr>
        <p:spPr>
          <a:xfrm>
            <a:off x="992160" y="1825560"/>
            <a:ext cx="296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8"/>
              </a:rPr>
              <a:t>http://www.discoveryeducation.com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538920" y="5791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1071000" y="6095880"/>
            <a:ext cx="191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9"/>
              </a:rPr>
              <a:t>http://www.piclits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0"/>
              </a:rPr>
              <a:t>http://bit.ly/KY57dL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611640" y="33526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w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616680" y="44956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kisp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613800" y="1523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609480" y="25146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nk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618480" y="76212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methean Pla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1051920" y="114300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community.prometheanplanet.com/en/user_groups/aurorak12/default.aspx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1164960" y="1828800"/>
            <a:ext cx="721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http://www.teachingdegree.org/2009/06/30/50-awesome-ways-to-use-skype-in-the-classroom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skype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1121760" y="289548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www.thinkfinity.org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1137960" y="3681360"/>
            <a:ext cx="198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www.twitter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@apstechgodd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@gimmy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1230120" y="4876920"/>
            <a:ext cx="28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s://aea-tic.wikispaces.com/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gwynn.wikispaces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ixth.wikispaces.com/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683280" y="571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1229400" y="60199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outube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685800" y="1752480"/>
          <a:ext cx="4038480" cy="1737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wynn Mo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ctional Media/Technology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is Elemen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rora Public Scho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ttp://gwynn.wikispaces.co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514600" y="3886200"/>
          <a:ext cx="6248520" cy="201132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hannon Wentwor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ctional Media/Technology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xth Avenue Elemen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rora Public Scho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ttp://blog.discoveryeducation.com/scwentworth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8"/>
          <p:cNvGrpSpPr/>
          <p:nvPr/>
        </p:nvGrpSpPr>
        <p:grpSpPr>
          <a:xfrm>
            <a:off x="152280" y="120600"/>
            <a:ext cx="8915400" cy="6661080"/>
            <a:chOff x="152280" y="120600"/>
            <a:chExt cx="8915400" cy="6661080"/>
          </a:xfrm>
        </p:grpSpPr>
        <p:pic>
          <p:nvPicPr>
            <p:cNvPr id="305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891540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Oval 2"/>
            <p:cNvSpPr/>
            <p:nvPr/>
          </p:nvSpPr>
          <p:spPr>
            <a:xfrm>
              <a:off x="598320" y="3098520"/>
              <a:ext cx="200484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3"/>
            <p:cNvSpPr/>
            <p:nvPr/>
          </p:nvSpPr>
          <p:spPr>
            <a:xfrm>
              <a:off x="5946840" y="4498920"/>
              <a:ext cx="230328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4"/>
            <p:cNvSpPr/>
            <p:nvPr/>
          </p:nvSpPr>
          <p:spPr>
            <a:xfrm>
              <a:off x="3867120" y="152280"/>
              <a:ext cx="178272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2306520" y="372600"/>
              <a:ext cx="1635120" cy="1325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 rot="914400">
              <a:off x="664920" y="2046240"/>
              <a:ext cx="2016000" cy="957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"/>
            <p:cNvSpPr/>
            <p:nvPr/>
          </p:nvSpPr>
          <p:spPr>
            <a:xfrm rot="19152600">
              <a:off x="5130360" y="592920"/>
              <a:ext cx="185724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1447920" y="304920"/>
          <a:ext cx="3733560" cy="63972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gital Footpri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33720" cy="24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6629400" y="2743200"/>
          <a:ext cx="2209680" cy="457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ttp://www.digitalfamilysummit.com/wp-content/uploads/2012/05/Digital-Footprint.pn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80880" y="1447920"/>
          <a:ext cx="3581640" cy="51732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 Socially Sm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38080" y="2286000"/>
          <a:ext cx="5410440" cy="822240"/>
        </p:xfrm>
        <a:graphic>
          <a:graphicData uri="http://schemas.openxmlformats.org/drawingml/2006/table">
            <a:tbl>
              <a:tblPr/>
              <a:tblGrid>
                <a:gridCol w="5410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verything you put online---STAYS on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5-Point Star 6"/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38080" y="3276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ink before you post-All posts are publ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38080" y="4191120"/>
          <a:ext cx="8077320" cy="457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ider the appropriateness of all material pos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371600" y="4724280"/>
          <a:ext cx="6781680" cy="82260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s this the image you want to present to the publi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914400" y="5715000"/>
          <a:ext cx="3657600" cy="4572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gital Citize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5-Point Star 11"/>
          <p:cNvSpPr/>
          <p:nvPr/>
        </p:nvSpPr>
        <p:spPr>
          <a:xfrm>
            <a:off x="304920" y="33526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5-Point Star 12"/>
          <p:cNvSpPr/>
          <p:nvPr/>
        </p:nvSpPr>
        <p:spPr>
          <a:xfrm>
            <a:off x="304920" y="42670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5-Point Star 13"/>
          <p:cNvSpPr/>
          <p:nvPr/>
        </p:nvSpPr>
        <p:spPr>
          <a:xfrm>
            <a:off x="304920" y="57913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85800" y="320760"/>
            <a:ext cx="77724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76320" y="666720"/>
            <a:ext cx="8001000" cy="781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5440" cy="4724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4724280" y="4419720"/>
            <a:ext cx="4191120" cy="45720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47600" y="1324080"/>
            <a:ext cx="8847000" cy="5076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686800" cy="8384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4724280" y="4038480"/>
            <a:ext cx="4114800" cy="45720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32880" cy="489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228600" y="409680"/>
            <a:ext cx="8151840" cy="88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4724280" y="4267080"/>
            <a:ext cx="3962520" cy="76212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336" name="Oval 2"/>
          <p:cNvSpPr/>
          <p:nvPr/>
        </p:nvSpPr>
        <p:spPr>
          <a:xfrm>
            <a:off x="914400" y="335268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6095880" y="342900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4"/>
          <p:cNvSpPr/>
          <p:nvPr/>
        </p:nvSpPr>
        <p:spPr>
          <a:xfrm rot="19658400">
            <a:off x="2209680" y="506520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 rot="16561800">
            <a:off x="3560760" y="5125680"/>
            <a:ext cx="190476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 rot="19998000">
            <a:off x="5638680" y="137124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 rot="1099800">
            <a:off x="837720" y="220932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 rot="2343000">
            <a:off x="2290320" y="57456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2:12:42Z</dcterms:created>
  <dc:creator>Gwynn</dc:creator>
  <dc:description/>
  <dc:language>en-US</dc:language>
  <cp:lastModifiedBy>Gwynn</cp:lastModifiedBy>
  <dcterms:modified xsi:type="dcterms:W3CDTF">2012-06-10T20:32:22Z</dcterms:modified>
  <cp:revision>48</cp:revision>
  <dc:subject/>
  <dc:title>Slide 1</dc:title>
</cp:coreProperties>
</file>